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C06-6074-4A17-971D-7E84A7A5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6CB-EC4A-4654-866B-5D441861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65A-24CF-43A6-AB9F-042E1162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126-2CA0-4A98-97AD-B53E34B7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274-DDA1-4D38-8043-2CC9C5E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223-3E71-4C6F-A9EF-A4C0497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C6B-3553-4FC3-B4E6-4E596BDA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3F0-48D9-465B-B2D0-87D3D67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615-77C7-4CAB-91D7-EB46A5F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F56-DC15-4C27-A9DA-0FD5635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B1B-041D-41BA-8BBD-5FD8AF9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6CA-5342-4334-87AF-B8BDC3D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5C6-8B79-47E2-B494-1AF0FD12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42960" y="1279800"/>
            <a:ext cx="585792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ABILITARE SISTEM RUTIER STRADA  ARHEOLOGI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7"/>
          <p:cNvSpPr/>
          <p:nvPr/>
        </p:nvSpPr>
        <p:spPr>
          <a:xfrm>
            <a:off x="1214280" y="479520"/>
            <a:ext cx="526752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eficiar:     PRIMARIA SECTORULUI  6, BUCURE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1"/>
          <p:cNvSpPr/>
          <p:nvPr/>
        </p:nvSpPr>
        <p:spPr>
          <a:xfrm>
            <a:off x="928800" y="1954440"/>
            <a:ext cx="5472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TUDIU DE FEZABILI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4"/>
          <p:cNvSpPr/>
          <p:nvPr/>
        </p:nvSpPr>
        <p:spPr>
          <a:xfrm>
            <a:off x="2565360" y="200160"/>
            <a:ext cx="40323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5"/>
          <p:cNvSpPr/>
          <p:nvPr/>
        </p:nvSpPr>
        <p:spPr>
          <a:xfrm>
            <a:off x="549360" y="130320"/>
            <a:ext cx="619272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6"/>
          <p:cNvSpPr/>
          <p:nvPr/>
        </p:nvSpPr>
        <p:spPr>
          <a:xfrm flipV="1">
            <a:off x="6669000" y="199800"/>
            <a:ext cx="0" cy="863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7"/>
          <p:cNvSpPr/>
          <p:nvPr/>
        </p:nvSpPr>
        <p:spPr>
          <a:xfrm flipV="1">
            <a:off x="6742080" y="200160"/>
            <a:ext cx="0" cy="129672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8"/>
          <p:cNvSpPr/>
          <p:nvPr/>
        </p:nvSpPr>
        <p:spPr>
          <a:xfrm>
            <a:off x="260280" y="9775800"/>
            <a:ext cx="3889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9"/>
          <p:cNvSpPr/>
          <p:nvPr/>
        </p:nvSpPr>
        <p:spPr>
          <a:xfrm>
            <a:off x="1557360" y="9705960"/>
            <a:ext cx="475308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0"/>
          <p:cNvSpPr/>
          <p:nvPr/>
        </p:nvSpPr>
        <p:spPr>
          <a:xfrm>
            <a:off x="260280" y="7257960"/>
            <a:ext cx="0" cy="25178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1"/>
          <p:cNvSpPr/>
          <p:nvPr/>
        </p:nvSpPr>
        <p:spPr>
          <a:xfrm flipV="1">
            <a:off x="189000" y="6536880"/>
            <a:ext cx="0" cy="2808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6719760" y="0"/>
            <a:ext cx="13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/>
          <p:cNvSpPr/>
          <p:nvPr/>
        </p:nvSpPr>
        <p:spPr>
          <a:xfrm>
            <a:off x="785880" y="2597760"/>
            <a:ext cx="54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VOLUM UNIC </a:t>
            </a:r>
            <a:br>
              <a:rPr sz="1300"/>
            </a:b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– PIESE SCRISE SI PIESE DESENATE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214880" y="9024840"/>
            <a:ext cx="2143080" cy="289800"/>
          </a:xfrm>
          <a:prstGeom prst="rect">
            <a:avLst/>
          </a:prstGeom>
          <a:solidFill>
            <a:srgbClr val="6a99c4">
              <a:alpha val="67000"/>
            </a:srgbClr>
          </a:solidFill>
          <a:ln w="3240">
            <a:solidFill>
              <a:srgbClr val="6a9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Octombrie 2013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642960" y="7882920"/>
            <a:ext cx="5626080" cy="28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iectant General:   S.C. TOTAL ROAD S.R.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rcRect l="22448" t="35399" r="43129" b="36667"/>
          <a:stretch/>
        </p:blipFill>
        <p:spPr>
          <a:xfrm>
            <a:off x="285840" y="8667720"/>
            <a:ext cx="857160" cy="428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3"/>
          <p:cNvSpPr/>
          <p:nvPr/>
        </p:nvSpPr>
        <p:spPr>
          <a:xfrm>
            <a:off x="1071720" y="8381880"/>
            <a:ext cx="6161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S.C. TOTAL ROAD S.R.L.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ucuresti, Str. Nucsoara, nr. 1,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l. 13, sc.3, ap. 115, sector 6.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Telefon,Fax                   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: 0724.715.501/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031/424.52.66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E-mail                            : office@totalroad.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Registrul Comertului    : J40/15081/200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d unic de inregistrare: 179186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nt deschis la BCR sucursala Tunari: RO77 RNCB02860011619200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Stema.jpg"/>
          <p:cNvPicPr/>
          <p:nvPr/>
        </p:nvPicPr>
        <p:blipFill>
          <a:blip r:embed="rId2"/>
          <a:stretch/>
        </p:blipFill>
        <p:spPr>
          <a:xfrm>
            <a:off x="642960" y="237960"/>
            <a:ext cx="58896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1.jpg"/>
          <p:cNvPicPr/>
          <p:nvPr/>
        </p:nvPicPr>
        <p:blipFill>
          <a:blip r:embed="rId3"/>
          <a:stretch/>
        </p:blipFill>
        <p:spPr>
          <a:xfrm>
            <a:off x="901800" y="4017960"/>
            <a:ext cx="1493640" cy="293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2.jpg"/>
          <p:cNvPicPr/>
          <p:nvPr/>
        </p:nvPicPr>
        <p:blipFill>
          <a:blip r:embed="rId4"/>
          <a:stretch/>
        </p:blipFill>
        <p:spPr>
          <a:xfrm>
            <a:off x="2328840" y="3517920"/>
            <a:ext cx="1852560" cy="38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3.jpg"/>
          <p:cNvPicPr/>
          <p:nvPr/>
        </p:nvPicPr>
        <p:blipFill>
          <a:blip r:embed="rId5"/>
          <a:stretch/>
        </p:blipFill>
        <p:spPr>
          <a:xfrm>
            <a:off x="4114800" y="3090960"/>
            <a:ext cx="2084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1:15:32Z</dcterms:created>
  <dc:creator>Mihnea Crihan</dc:creator>
  <dc:description/>
  <dc:language>en-US</dc:language>
  <cp:lastModifiedBy>SorinPC</cp:lastModifiedBy>
  <dcterms:modified xsi:type="dcterms:W3CDTF">2013-11-25T18:09:33Z</dcterms:modified>
  <cp:revision>123</cp:revision>
  <dc:subject/>
  <dc:title>Slide 1</dc:title>
</cp:coreProperties>
</file>